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7.png" ContentType="image/png"/>
  <Override PartName="/ppt/media/image26.jpeg" ContentType="image/jpeg"/>
  <Override PartName="/ppt/media/image4.jpeg" ContentType="image/jpeg"/>
  <Override PartName="/ppt/media/image31.jpeg" ContentType="image/jpeg"/>
  <Override PartName="/ppt/media/image2.png" ContentType="image/png"/>
  <Override PartName="/ppt/media/image25.png" ContentType="image/png"/>
  <Override PartName="/ppt/media/image7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9.png" ContentType="image/png"/>
  <Override PartName="/ppt/media/image5.png" ContentType="image/png"/>
  <Override PartName="/ppt/media/image10.jpeg" ContentType="image/jpeg"/>
  <Override PartName="/ppt/media/image30.jpeg" ContentType="image/jpeg"/>
  <Override PartName="/ppt/media/image3.png" ContentType="image/png"/>
  <Override PartName="/ppt/media/image1.png" ContentType="image/png"/>
  <Override PartName="/ppt/media/image24.png" ContentType="image/png"/>
  <Override PartName="/ppt/media/image16.jpeg" ContentType="image/jpeg"/>
  <Override PartName="/ppt/media/image32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19.png" ContentType="image/png"/>
  <Override PartName="/ppt/media/image20.jpeg" ContentType="image/jpeg"/>
  <Override PartName="/ppt/media/image29.png" ContentType="image/png"/>
  <Override PartName="/ppt/media/image21.jpeg" ContentType="image/jpeg"/>
  <Override PartName="/ppt/media/image22.png" ContentType="image/pn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7488-1227-4887-BBF5-A15D9C654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1CFD-8406-4A0F-AE3D-6011252FC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A11D-F9FA-40FD-AB18-703F503C9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42F0-21BC-4880-B7CD-034C535E1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EDC3-695F-4506-9B9B-07F961654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55EC-585E-43B9-BB19-3B1248BC2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825D-DB97-4C76-B5F2-CFB84A67B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7FA4-EE7C-4418-9866-8725D9D54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E490-92CA-4B02-8DF7-B4662F56F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EE57-4231-40E3-A6A1-DD193F88F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CC1A-6706-48C3-9BCE-A7FBE7A66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50F5-90DA-44BE-8D47-ED1BB4A0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095E2-57EC-4174-8464-74ECAF2899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782800" y="2571840"/>
            <a:ext cx="22320" cy="39052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9640800" y="7112160"/>
            <a:ext cx="520920" cy="5079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998800" y="3723840"/>
            <a:ext cx="6502320" cy="4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c3c3c"/>
                </a:solidFill>
                <a:latin typeface="Arial"/>
              </a:rPr>
              <a:t>Google Doc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998800" y="4282560"/>
            <a:ext cx="650232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d7d7d"/>
                </a:solidFill>
                <a:latin typeface="Arial"/>
              </a:rPr>
              <a:t>An Overview for Educ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52320" y="3759120"/>
            <a:ext cx="1901880" cy="768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383160" y="6670800"/>
            <a:ext cx="367524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52240" y="452520"/>
            <a:ext cx="9055080" cy="4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c3c3c"/>
                </a:solidFill>
                <a:latin typeface="Arial"/>
              </a:rPr>
              <a:t>Writing for an authentic audienc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50960" y="6000840"/>
            <a:ext cx="8658000" cy="12063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825480" y="6076800"/>
            <a:ext cx="850896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030"/>
                </a:solidFill>
                <a:latin typeface="Arial"/>
              </a:rPr>
              <a:t>Publish a document to make it visible to an authentic audience: parents, peers, and frie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030"/>
                </a:solidFill>
                <a:latin typeface="Arial"/>
              </a:rPr>
              <a:t>You can even publish directly to your blo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79600" y="1417680"/>
            <a:ext cx="9145440" cy="41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782800" y="2571840"/>
            <a:ext cx="22320" cy="39052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998800" y="3200400"/>
            <a:ext cx="65023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c3c3c"/>
                </a:solidFill>
                <a:latin typeface="Arial"/>
              </a:rPr>
              <a:t>Not just documents…</a:t>
            </a:r>
            <a:br>
              <a:rPr sz="3300"/>
            </a:br>
            <a:br>
              <a:rPr sz="3300"/>
            </a:br>
            <a:r>
              <a:rPr b="0" lang="en-US" sz="3300" spc="-1" strike="noStrike">
                <a:solidFill>
                  <a:srgbClr val="3c3c3c"/>
                </a:solidFill>
                <a:latin typeface="Arial"/>
              </a:rPr>
              <a:t>Spreadsheets and presentations,</a:t>
            </a:r>
            <a:br>
              <a:rPr sz="3300"/>
            </a:br>
            <a:r>
              <a:rPr b="0" lang="en-US" sz="3300" spc="-1" strike="noStrike">
                <a:solidFill>
                  <a:srgbClr val="3c3c3c"/>
                </a:solidFill>
                <a:latin typeface="Arial"/>
              </a:rPr>
              <a:t>too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52240" y="452520"/>
            <a:ext cx="9055080" cy="4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c3c3c"/>
                </a:solidFill>
                <a:latin typeface="Arial"/>
              </a:rPr>
              <a:t>Online spreadsheet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96800" y="1722600"/>
            <a:ext cx="899640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52240" y="452520"/>
            <a:ext cx="9055080" cy="4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c3c3c"/>
                </a:solidFill>
                <a:latin typeface="Arial"/>
              </a:rPr>
              <a:t>Spreadsheet forms simplify data collectio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4200" y="6338880"/>
            <a:ext cx="8567640" cy="10414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798480" y="6411960"/>
            <a:ext cx="8453520" cy="5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03030"/>
                </a:solidFill>
                <a:latin typeface="Arial"/>
              </a:rPr>
              <a:t>Create a survey or poll in a few easy step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03030"/>
                </a:solidFill>
                <a:latin typeface="Arial"/>
              </a:rPr>
              <a:t>Your respondents’ data appears in your spreadsheet as they fill it ou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17480" y="1160640"/>
            <a:ext cx="4232520" cy="49878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5719680" y="2035080"/>
            <a:ext cx="4029120" cy="34909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089680" y="3138480"/>
            <a:ext cx="500040" cy="814320"/>
          </a:xfrm>
          <a:custGeom>
            <a:avLst/>
            <a:gdLst/>
            <a:ahLst/>
            <a:rect l="l" t="t" r="r" b="b"/>
            <a:pathLst>
              <a:path w="21600" h="22715">
                <a:moveTo>
                  <a:pt x="0" y="6165"/>
                </a:moveTo>
                <a:lnTo>
                  <a:pt x="10427" y="6165"/>
                </a:lnTo>
                <a:cubicBezTo>
                  <a:pt x="10427" y="6165"/>
                  <a:pt x="10412" y="1031"/>
                  <a:pt x="10427" y="985"/>
                </a:cubicBezTo>
                <a:cubicBezTo>
                  <a:pt x="10427" y="0"/>
                  <a:pt x="11410" y="995"/>
                  <a:pt x="11410" y="995"/>
                </a:cubicBezTo>
                <a:lnTo>
                  <a:pt x="21600" y="11345"/>
                </a:lnTo>
                <a:cubicBezTo>
                  <a:pt x="21600" y="11345"/>
                  <a:pt x="11413" y="21669"/>
                  <a:pt x="11413" y="21691"/>
                </a:cubicBezTo>
                <a:cubicBezTo>
                  <a:pt x="10263" y="22715"/>
                  <a:pt x="10427" y="21705"/>
                  <a:pt x="10427" y="21705"/>
                </a:cubicBezTo>
                <a:lnTo>
                  <a:pt x="10427" y="16526"/>
                </a:lnTo>
                <a:lnTo>
                  <a:pt x="0" y="16526"/>
                </a:lnTo>
                <a:lnTo>
                  <a:pt x="0" y="616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52240" y="452520"/>
            <a:ext cx="9055080" cy="4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c3c3c"/>
                </a:solidFill>
                <a:latin typeface="Arial"/>
              </a:rPr>
              <a:t>Online presentation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50960" y="5978520"/>
            <a:ext cx="8658000" cy="1197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825480" y="6053040"/>
            <a:ext cx="850896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3030"/>
                </a:solidFill>
                <a:latin typeface="Arial"/>
              </a:rPr>
              <a:t>You can import existing PowerPoint presentations or create new ones from scra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3030"/>
                </a:solidFill>
                <a:latin typeface="Arial"/>
              </a:rPr>
              <a:t>Insert images and videos, and format your slides to fit your preferenc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3030"/>
                </a:solidFill>
                <a:latin typeface="Arial"/>
              </a:rPr>
              <a:t>Publish and embed your presentations in a website, allowing access to a wide audien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795320" y="1335240"/>
            <a:ext cx="6435720" cy="43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52240" y="452520"/>
            <a:ext cx="9055080" cy="4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c3c3c"/>
                </a:solidFill>
                <a:latin typeface="Arial"/>
              </a:rPr>
              <a:t>Students can chat while others are presenting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50960" y="6286680"/>
            <a:ext cx="8658000" cy="11966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825480" y="6357960"/>
            <a:ext cx="850896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3030"/>
                </a:solidFill>
                <a:latin typeface="Arial"/>
              </a:rPr>
              <a:t>“</a:t>
            </a:r>
            <a:r>
              <a:rPr b="0" lang="en-US" sz="1300" spc="-1" strike="noStrike">
                <a:solidFill>
                  <a:srgbClr val="3c3c3c"/>
                </a:solidFill>
                <a:latin typeface="Arial"/>
              </a:rPr>
              <a:t>One student talked aloud while everyone listened and chatted about the presentation… For the first time I can EVER remember as a teacher - 100% of the students were engaged in the presentation and participated in the chat. The students were enthusiastic and offered insightful and appropriate comments.“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c3c3c"/>
                </a:solidFill>
                <a:latin typeface="Arial"/>
              </a:rPr>
              <a:t>        </a:t>
            </a:r>
            <a:r>
              <a:rPr b="0" lang="en-US" sz="1300" spc="-1" strike="noStrike">
                <a:solidFill>
                  <a:srgbClr val="3c3c3c"/>
                </a:solidFill>
                <a:latin typeface="Arial"/>
              </a:rPr>
              <a:t>- Computer Applications teacher, Beaverton, O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536840" y="1270080"/>
            <a:ext cx="6713280" cy="47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52240" y="452520"/>
            <a:ext cx="9055080" cy="4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c3c3c"/>
                </a:solidFill>
                <a:latin typeface="Arial"/>
              </a:rPr>
              <a:t>Example Exercise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192560" y="1404720"/>
            <a:ext cx="524520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3c3c3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3c"/>
                </a:solidFill>
                <a:latin typeface="Arial"/>
              </a:rPr>
              <a:t>Doc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3c3c3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c3c3c"/>
                </a:solidFill>
                <a:latin typeface="Arial"/>
              </a:rPr>
              <a:t>Journali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3c3c3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c3c3c"/>
                </a:solidFill>
                <a:latin typeface="Arial"/>
              </a:rPr>
              <a:t>Essays (individual or co-edited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3c3c3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c3c3c"/>
                </a:solidFill>
                <a:latin typeface="Arial"/>
              </a:rPr>
              <a:t>Collaborative research papers (history, geography, science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3c3c3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c3c3c"/>
                </a:solidFill>
                <a:latin typeface="Arial"/>
              </a:rPr>
              <a:t>Collaborative book report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3c3c3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c3c3c"/>
                </a:solidFill>
                <a:latin typeface="Arial"/>
              </a:rPr>
              <a:t>Creative writing (script writing, poetry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3c3c3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c3c3c"/>
                </a:solidFill>
                <a:latin typeface="Arial"/>
              </a:rPr>
              <a:t>Writing portfolio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c3c3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3c"/>
                </a:solidFill>
                <a:latin typeface="Arial"/>
              </a:rPr>
              <a:t>Spreadshe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3c3c3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c3c3c"/>
                </a:solidFill>
                <a:latin typeface="Arial"/>
              </a:rPr>
              <a:t>Stock portfolio (live data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3c3c3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c3c3c"/>
                </a:solidFill>
                <a:latin typeface="Arial"/>
              </a:rPr>
              <a:t>Graphs, charts, and data presentation techniqu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c3c3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3c"/>
                </a:solidFill>
                <a:latin typeface="Arial"/>
              </a:rPr>
              <a:t>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3c3c3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c3c3c"/>
                </a:solidFill>
                <a:latin typeface="Arial"/>
              </a:rPr>
              <a:t>Presenting group researc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3c3c3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c3c3c"/>
                </a:solidFill>
                <a:latin typeface="Arial"/>
              </a:rPr>
              <a:t>Active student participation during a presenta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003320" y="1390680"/>
            <a:ext cx="2232000" cy="16444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984240" y="5389560"/>
            <a:ext cx="2270160" cy="1746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003320" y="3325680"/>
            <a:ext cx="2251080" cy="17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52240" y="452520"/>
            <a:ext cx="9055080" cy="4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c3c3c"/>
                </a:solidFill>
                <a:latin typeface="Arial"/>
              </a:rPr>
              <a:t>Makes planning and admin tasks easier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71480" y="6624720"/>
            <a:ext cx="8605800" cy="7524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847800" y="6702480"/>
            <a:ext cx="84628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030"/>
                </a:solidFill>
                <a:latin typeface="Arial"/>
              </a:rPr>
              <a:t>Teachers create and share lesson plans, meeting notes, and contact information in Google Do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87240" y="1316160"/>
            <a:ext cx="5667480" cy="47307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3638520" y="2395440"/>
            <a:ext cx="540396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502920" y="3095640"/>
            <a:ext cx="91105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c3c3c"/>
                </a:solidFill>
                <a:latin typeface="Arial"/>
              </a:rPr>
              <a:t>Visit the </a:t>
            </a:r>
            <a:r>
              <a:rPr b="0" lang="en-US" sz="3300" spc="-1" strike="noStrike" u="sng">
                <a:solidFill>
                  <a:srgbClr val="ccccff"/>
                </a:solidFill>
                <a:uFillTx/>
                <a:latin typeface="Arial"/>
              </a:rPr>
              <a:t>Google Docs pag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c3c3c"/>
                </a:solidFill>
                <a:latin typeface="Arial"/>
              </a:rPr>
              <a:t>on the </a:t>
            </a:r>
            <a:r>
              <a:rPr b="0" lang="en-US" sz="3300" spc="-1" strike="noStrike" u="sng">
                <a:solidFill>
                  <a:srgbClr val="ccccff"/>
                </a:solidFill>
                <a:uFillTx/>
                <a:latin typeface="Arial"/>
              </a:rPr>
              <a:t>Google for Educators sit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c3c3c"/>
                </a:solidFill>
                <a:latin typeface="Arial"/>
              </a:rPr>
              <a:t>to get other Google Docs resources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ccccff"/>
                </a:solidFill>
                <a:uFillTx/>
                <a:latin typeface="Arial"/>
              </a:rPr>
              <a:t>http://www.google.com/educator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997440" y="422280"/>
            <a:ext cx="199224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52240" y="452520"/>
            <a:ext cx="9055080" cy="4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c3c3c"/>
                </a:solidFill>
                <a:latin typeface="Arial"/>
              </a:rPr>
              <a:t>Google Doc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6073920"/>
            <a:ext cx="8636040" cy="1060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833400" y="6151680"/>
            <a:ext cx="849312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</a:rPr>
              <a:t>Google Docs</a:t>
            </a:r>
            <a:r>
              <a:rPr b="0" lang="en-US" sz="1800" spc="-1" strike="noStrike">
                <a:solidFill>
                  <a:srgbClr val="303030"/>
                </a:solidFill>
                <a:latin typeface="Arial"/>
              </a:rPr>
              <a:t> is a free, web-based word processor, spreadsheet and presentation tool that allows you to </a:t>
            </a:r>
            <a:r>
              <a:rPr b="0" lang="en-US" sz="1800" spc="-1" strike="noStrike">
                <a:solidFill>
                  <a:srgbClr val="3c3c3c"/>
                </a:solidFill>
                <a:latin typeface="Arial"/>
              </a:rPr>
              <a:t>create and edit documents from anywhere and collaborate with multiple people at the same tim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905120" y="1104840"/>
            <a:ext cx="6350040" cy="47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52240" y="452520"/>
            <a:ext cx="9055080" cy="4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c3c3c"/>
                </a:solidFill>
                <a:latin typeface="Arial"/>
              </a:rPr>
              <a:t>Anywhere access &amp; collaboratio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19280" y="5407200"/>
            <a:ext cx="8721720" cy="19587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808200" y="5573880"/>
            <a:ext cx="858204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030"/>
                </a:solidFill>
                <a:latin typeface="Arial"/>
              </a:rPr>
              <a:t>Google Docs is differen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030"/>
                </a:solidFill>
                <a:latin typeface="Arial"/>
              </a:rPr>
              <a:t>Documents are saved online and can be accessed from any computer with an Internet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030"/>
                </a:solidFill>
                <a:latin typeface="Arial"/>
              </a:rPr>
              <a:t>Collaboration: Multiple people can work together on the same document. No need to email documents back and for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969920" y="1224000"/>
            <a:ext cx="4610160" cy="3674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3370320" y="1841400"/>
            <a:ext cx="476712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782800" y="2571840"/>
            <a:ext cx="22320" cy="39052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998800" y="3266640"/>
            <a:ext cx="6502320" cy="9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c3c3c"/>
                </a:solidFill>
                <a:latin typeface="Arial"/>
              </a:rPr>
              <a:t>How Google Docs helps educators and student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52240" y="452520"/>
            <a:ext cx="9055080" cy="4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c3c3c"/>
                </a:solidFill>
                <a:latin typeface="Arial"/>
              </a:rPr>
              <a:t>Access documents from anywher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17480" y="5094360"/>
            <a:ext cx="8721720" cy="19605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43040" y="5251320"/>
            <a:ext cx="858348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030"/>
                </a:solidFill>
                <a:latin typeface="Arial"/>
              </a:rPr>
              <a:t>Students can work from both school and home since documents are stored securely on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030"/>
                </a:solidFill>
                <a:latin typeface="Arial"/>
              </a:rPr>
              <a:t>All you need is browser and internet connection, no software version 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030"/>
                </a:solidFill>
                <a:latin typeface="Arial"/>
              </a:rPr>
              <a:t>No more “I forgot my work” excu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24240" y="1933560"/>
            <a:ext cx="3276720" cy="27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52240" y="452520"/>
            <a:ext cx="9055080" cy="4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c3c3c"/>
                </a:solidFill>
                <a:latin typeface="Arial"/>
              </a:rPr>
              <a:t>Saves changes automatically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08120" y="5103720"/>
            <a:ext cx="8751960" cy="22827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973080" y="5297400"/>
            <a:ext cx="8251920" cy="10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030"/>
                </a:solidFill>
                <a:latin typeface="Arial"/>
              </a:rPr>
              <a:t>Google Docs saves automatically, on a regular basis. Each change is tracked as a new revision. You can see exactly what’s been revised, by whom, and wh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23800" y="1427040"/>
            <a:ext cx="9145800" cy="33703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166760" y="6237360"/>
            <a:ext cx="7548480" cy="6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30303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3030"/>
                </a:solidFill>
                <a:latin typeface="Arial"/>
              </a:rPr>
              <a:t>“</a:t>
            </a:r>
            <a:r>
              <a:rPr b="0" lang="en-US" sz="1300" spc="-1" strike="noStrike">
                <a:solidFill>
                  <a:srgbClr val="3c3c3c"/>
                </a:solidFill>
                <a:latin typeface="Arial"/>
              </a:rPr>
              <a:t>Teachers are able to individually assess student participation and content using the revision tab on Google Docs to see how editing is proceeding and to encourage students as they work.”         - Technology coordinator, Lafayette, C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52240" y="452520"/>
            <a:ext cx="9055080" cy="4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c3c3c"/>
                </a:solidFill>
                <a:latin typeface="Arial"/>
              </a:rPr>
              <a:t>Collaboration gets students excited and engage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62120" y="6035760"/>
            <a:ext cx="8636040" cy="13921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844560" y="6154560"/>
            <a:ext cx="83487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03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303030"/>
                </a:solidFill>
                <a:latin typeface="Arial"/>
              </a:rPr>
              <a:t>Students love it, no more coaxing kids to do their writing assignments. They beg to go to the computer lab to work on a collaborative assignment with their partner.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0303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3030"/>
                </a:solidFill>
                <a:latin typeface="Arial"/>
              </a:rPr>
              <a:t>- High School Journalism teacher, Palo Alto, 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168560" y="1270080"/>
            <a:ext cx="789300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52240" y="452520"/>
            <a:ext cx="9055080" cy="4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c3c3c"/>
                </a:solidFill>
                <a:latin typeface="Arial"/>
              </a:rPr>
              <a:t>Add collaborators to document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0080" y="5724360"/>
            <a:ext cx="8699760" cy="17589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074600" y="5915160"/>
            <a:ext cx="8031240" cy="10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03030"/>
                </a:solidFill>
                <a:latin typeface="Arial"/>
              </a:rPr>
              <a:t>After students invite you to their documents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03030"/>
                </a:solidFill>
                <a:latin typeface="Arial"/>
              </a:rPr>
              <a:t>you can review, comment, and grade their work at any tim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03030"/>
                </a:solidFill>
                <a:latin typeface="Arial"/>
              </a:rPr>
              <a:t>it's hard for students to tell fibs when you can see their work at all tim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03030"/>
                </a:solidFill>
                <a:latin typeface="Arial"/>
              </a:rPr>
              <a:t>Also, students can work together on projects and get peer feedback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96800" y="1676520"/>
            <a:ext cx="914580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52240" y="452520"/>
            <a:ext cx="9055080" cy="4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c3c3c"/>
                </a:solidFill>
                <a:latin typeface="Arial"/>
              </a:rPr>
              <a:t>Folders organize your students’ work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71480" y="6153120"/>
            <a:ext cx="8588520" cy="12366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839880" y="6226200"/>
            <a:ext cx="848016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030"/>
                </a:solidFill>
                <a:latin typeface="Arial"/>
              </a:rPr>
              <a:t>Folders keep student work organiz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030"/>
                </a:solidFill>
                <a:latin typeface="Arial"/>
              </a:rPr>
              <a:t>Standard naming schemes allow you to sort by “Name” to easily find a class peri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976320" y="1316160"/>
            <a:ext cx="7934400" cy="45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